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D8C6-BCCF-43CF-B1A9-D53DF4EE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E31F-85A6-4C30-9B91-999ADD7B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A77-CBA1-4B57-A6E7-27304C7B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10B5-CE2E-4216-A4B2-9C48D441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578-1E63-4FC5-9CA0-1E92C2F7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723-7063-4D6C-9A63-7CF3FDCB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41BB-EA93-4D56-900C-58BCC8DB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C953-40FD-4F4A-94CF-2C983AA0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3ED-B149-4288-9826-FBABB978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AE8-4620-498D-9C28-97E2AB38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2262-B0B2-4A4D-8D87-98513516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7F6B-545F-48F9-ACFA-B9302FD9F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FF39-51E6-43A0-B914-76587A3BBD1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894C-E975-453E-8560-4B92D3D22D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erheterodyne Rece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M Receiv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rimin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plitude variations derived in response to frequency or phase varia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F amplifi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T RF amplifi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FET RF amplifi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mi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miting and sensi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erheterodyne Rece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crete Component FM Recei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yout of superheterodyne receiver composed of discrete analog 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derstanding of how individual subsystem blocks fit together to form complete syst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rn receiver designs rely heavily on large-scale integrated circuits and digital signal processing techniq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rect Conversion Rece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Conversion Receiv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 frequency-conversion and demodulation functions in one step, rather than tw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xer difference-frequency output is intelligence rather than higher-frequency IF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no IF filter; no need for separate demodulator st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mune to image-frequency probl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modulation and Detect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 Diode Detec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ce frequencies created by AM receiver detector represent the intelligence; nonlinear dev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ult confirmed in time and frequency domai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ode will rectify incoming signal, distorting 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antages of diode detector is its simplic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modulation and Detect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ction of Suppressed-Carrier Signa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e diode detector cannot be used to demodulate SSB signal because one of frequencies, carrier, is abs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e way to form SSB det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mixer stage (product detector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nchronous det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generates carrier from received sig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modulation and Detect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dulation of FM and P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M discriminator extracts intelligence modulated onto carrier in form of frequency vari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ope dete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ster-Seeley discrimina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tio dete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drature dete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L FM demodula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modulation and Detect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A Deco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idiary communication authorization (SC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equency-multiplexed on FM modulating sig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ceiver Noise, Sensitivity, and Dynamic Range Relationship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ise and Receiver Sensitiv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der the bandwidth, greater noise power and higher noise flo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low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/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d, better receiver sensitivity necessa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AD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nal plu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ise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tor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ceiver Noise, Sensitivity, and Dynamic Range Relationship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ynamic Ran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plifier or receiver is input power range over which it provides useful outp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modulation Distortion Tes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amplifier for its IMD by comparing two test frequencies to level of specific IMD produ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utomatic Gain Control And Squel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btaining the AGC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AGC systems obtain AGC level just following the detect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ling the Gain of a Transis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able dc AGC level used to control gain of common-emitter transistor amplifier st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ceiver Characteristics: Sensitivity and Selectivit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nsitiv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um input signal (voltage) required to produce specified outp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ise flo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put noi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ectiv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t to which receiver capable of differentiating between desired signal and other frequenc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utomatic Gain Control And Squel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layed AG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e automatic gain control (AGC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ents no reduction in gain for weak signa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utomatic Gain Control And Squel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xiliary AG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d to cause step reduction in receiver gain at arbitrarily high value of received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riable Sensitiv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al AGC control; user controls receiver gain (sensitivity) to suit requi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utomatic Gain Control And Squel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riable Selectiv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able bandwidth tuning (VBT): obtain variable selectiv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utomatic Gain Control And Squel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ise Limi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lence receiver for duration of noise pul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ter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me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es visual indication of received signal strength; reads dc curr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utomatic Gain Control And Squel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quel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ions receivers have squelch circuits to silence audio amplifier stages until carrier detec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audio amplified and passed on to speak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utomatic Gain Control And Squel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quel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ous Tone Coded Squelch System (CTC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ows multiple user groups to share common communications channel without having to listen to each other’s transmis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Coded Squelch (DC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re-advanced squelch syst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Tuned Radio-Frequency Receive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uned Radio Frequency (TRF) Receiv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stages of RF amplification; each stage preceded by separate variable-tuned circu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usted by individual variable capacit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able selectivity over its intended tuning ran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erheterodyne Rece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equency Con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xer (first detector) performs frequency conversion proces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uned-Circuit Adjust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to superheterodyn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make LO frequency track with circuit or circuits that are tuning incoming radio signal so difference is constant frequency (the IF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erheterodyne Rece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age Frequ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sired received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of gain in superheterodyne receiver occurs in IF amplifiers at fixed frequ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uble conver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lve image frequency problem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F amplifier with its own input tuned circuit helps to minimize probl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erheterodyne Rece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uble Con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pping down RF signal to a first, high IF frequency and then mixing down again to second, lower, final IF frequ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age frequencies not major problem for low-frequency carri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erheterodyne Rece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p-Con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t higher frequency than received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el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ible for image frequency rejection characteristics of receiv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erheterodyne Rece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Complete AM Recei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xiliary AGC di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ditional gain control for strong signals; enhances range of signals that can be compensated for by receiv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erheterodyne Rece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SB Receiv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mixer and beat-frequency oscillator (BFO) must replace detection scheme employed by AM receiver designed for reception of full-carrier, double-sideband transmiss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James Ramsey</cp:lastModifiedBy>
  <dcterms:modified xsi:type="dcterms:W3CDTF">2013-05-08T15:55:17Z</dcterms:modified>
  <cp:revision>5</cp:revision>
  <dc:subject/>
  <dc:title>Slide 1</dc:title>
</cp:coreProperties>
</file>